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62E0-F7CD-4041-8BB5-47C1F149F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cheney7a4science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Baking_soda_and_vinega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ombu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t image from: http://blogs.mcgill.ca/oss/2013/05/06/if-you-were-using-“cathodic-protection”-what-would-you-be-trying-to-protect/ru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tarnish from: http://silvertarnishing.com/ways-to-remove-silver-tarnish-–-a-gui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ice melting from: http://blog.thesietch.org/2007/08/23/arctic-will-melt-to-projected-2050-levels-this-yea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paper cut up from: http://janetgover.com/?p=27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2A7-167A-4807-B2CD-B9F674C9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DAF-7B13-4D8F-A6A7-430CCA3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0D7-B0F8-4148-B1DE-2E68E304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0D8-445A-41DC-B60E-87B3A0C5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16F-078C-476D-95BA-AEEABD7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534-B6BD-4C8A-A7E7-99EB574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47A-A54C-49AC-91C4-DE4C8A6C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4AD-41A5-455A-B2F4-690ED2D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524-6009-4957-942E-5BCCB1C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C34-A0E6-4DF9-8723-9E80E9A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C4E-A70A-4FB9-87E8-0F818A6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6F7-0F85-4C76-8D04-A12C52F6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A7E3-61F9-467E-BF15-D27BF0EE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substance changes and produces one or more new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8960" y="3581280"/>
            <a:ext cx="7964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haracteristic of a substance that can be observed when it reacts to produce new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2629080"/>
            <a:ext cx="4343400" cy="28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of a substance to b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38600" y="167652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038400"/>
            <a:ext cx="38862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287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19:34:58Z</dcterms:created>
  <dc:creator>rubina khan</dc:creator>
  <dc:description/>
  <dc:language>en-US</dc:language>
  <cp:lastModifiedBy>rubina khan</cp:lastModifiedBy>
  <dcterms:modified xsi:type="dcterms:W3CDTF">2014-11-27T19:59:14Z</dcterms:modified>
  <cp:revision>11</cp:revision>
  <dc:subject/>
  <dc:title>Chemical Properties</dc:title>
</cp:coreProperties>
</file>